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Lati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D603-52D3-4E0E-9FFC-93943D88F975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72CC-5970-492D-A718-E0C26EF123D4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A0D2-AF79-45B7-AA9E-EEDCF57B5027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CBA9-6C7C-4767-B0AE-4911168CDF73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D455-6E88-4D9B-B148-31CDB3B5E04C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7CFE-8385-4474-A5D1-30700A84DEDE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74ED-E890-4106-BD69-A8BDE54D370B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5DCF-1B8D-4225-A091-2F2689C1FD3A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A2E-D694-4370-B192-5526CC01883F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24FC-2F6D-46C5-BDBF-2B6FE80CF81E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780-448B-40F3-88F7-0B4EA4EC470D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9707-2A44-4577-9FF4-C7F103CB75E2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3EE2-DBA4-4C01-B291-2AD64DBE6551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889E-5374-4224-B15F-D2E9116792C4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45C3-0F6F-4981-B1ED-A476480328D9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C96-D323-4586-86E8-2C5F3489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07D-2511-433D-8FEF-CACC89F2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F2C-C5E2-488A-B63A-BE6C55AB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2DB-A205-4FD8-9D99-060D06BD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881-AAB6-441F-94A5-676C2272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D74-BDFD-499C-9BC2-636BE91F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97A-2205-4D86-B3B5-4CFAD5F3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734-C1FC-40F7-B5B2-7B186651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649-7E3F-427C-ABFB-1EA46A00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20D-409D-4E41-8A4E-A2B1AE14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849-38B3-4C36-8914-2B7085B2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B3A-F6A1-42F8-862C-839F7B0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0127-ED3B-4EE5-9843-9F9480AD5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welve major deities of ancient 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Nuntius deōrum Rōmānōrum quī gerit ālas in caligīs et in petasō.  Deus quī prōtegit viatōrēs et mercātōrē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066680" y="3656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Mercuri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pic>
        <p:nvPicPr>
          <p:cNvPr id="75" name="Picture 7" descr="ElecHseEm6"/>
          <p:cNvPicPr/>
          <p:nvPr/>
        </p:nvPicPr>
        <p:blipFill>
          <a:blip r:embed="rId1"/>
          <a:stretch/>
        </p:blipFill>
        <p:spPr>
          <a:xfrm>
            <a:off x="4724280" y="1828800"/>
            <a:ext cx="2241720" cy="43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messis et cultūrae agrōrum; tenet frūmen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ceres"/>
          <p:cNvPicPr/>
          <p:nvPr/>
        </p:nvPicPr>
        <p:blipFill>
          <a:blip r:embed="rId1"/>
          <a:stretch/>
        </p:blipFill>
        <p:spPr>
          <a:xfrm>
            <a:off x="2743200" y="2209680"/>
            <a:ext cx="3814920" cy="3287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971800" y="56757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ē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quī facit arma prō virīs et fulgura prō I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11354_14a8079eb6"/>
          <p:cNvPicPr/>
          <p:nvPr/>
        </p:nvPicPr>
        <p:blipFill>
          <a:blip r:embed="rId1"/>
          <a:stretch/>
        </p:blipFill>
        <p:spPr>
          <a:xfrm>
            <a:off x="4952880" y="1600200"/>
            <a:ext cx="208764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990720" y="312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Vulcā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sapientiae, et bellī, et contextūs.  Adulta ea nata est ex fronte patris Iov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minerva"/>
          <p:cNvPicPr/>
          <p:nvPr/>
        </p:nvPicPr>
        <p:blipFill>
          <a:blip r:embed="rId1"/>
          <a:stretch/>
        </p:blipFill>
        <p:spPr>
          <a:xfrm>
            <a:off x="3124080" y="1828800"/>
            <a:ext cx="1667160" cy="4079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5486400" y="3771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v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01840" y="104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pic>
        <p:nvPicPr>
          <p:cNvPr id="86" name="Picture 5" descr="ceres"/>
          <p:cNvPicPr/>
          <p:nvPr/>
        </p:nvPicPr>
        <p:blipFill>
          <a:blip r:embed="rId1"/>
          <a:stretch/>
        </p:blipFill>
        <p:spPr>
          <a:xfrm>
            <a:off x="3271680" y="2308320"/>
            <a:ext cx="2600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Deus s</a:t>
            </a: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ōlis, mūsicae, arcūs &amp; sagittārum, et medicīn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apollo"/>
          <p:cNvPicPr/>
          <p:nvPr/>
        </p:nvPicPr>
        <p:blipFill>
          <a:blip r:embed="rId1"/>
          <a:stretch/>
        </p:blipFill>
        <p:spPr>
          <a:xfrm>
            <a:off x="1828800" y="1469880"/>
            <a:ext cx="54100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590920" y="57902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Apollō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Lūnae et vēnātiōnis.  Graecē nōminātur Artemis.  Frāter est Apoll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diana"/>
          <p:cNvPicPr/>
          <p:nvPr/>
        </p:nvPicPr>
        <p:blipFill>
          <a:blip r:embed="rId1"/>
          <a:stretch/>
        </p:blipFill>
        <p:spPr>
          <a:xfrm>
            <a:off x="3124080" y="1676520"/>
            <a:ext cx="2681280" cy="3693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133720" y="579024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īān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Rēx deōrum hominumque.  Facit fulguribus tempestātes.  Eius avis est aqu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upiter"/>
          <p:cNvPicPr/>
          <p:nvPr/>
        </p:nvPicPr>
        <p:blipFill>
          <a:blip r:embed="rId1"/>
          <a:stretch/>
        </p:blipFill>
        <p:spPr>
          <a:xfrm>
            <a:off x="3200400" y="1752480"/>
            <a:ext cx="2814480" cy="4222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5562720" y="3904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uppiter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-Roman"/>
                <a:ea typeface="GaramondLatin-Roman"/>
              </a:rPr>
              <a:t>Dea amōris et pulchritūdinis.  Māter hērōis Aenē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romvenus"/>
          <p:cNvPicPr/>
          <p:nvPr/>
        </p:nvPicPr>
        <p:blipFill>
          <a:blip r:embed="rId1"/>
          <a:stretch/>
        </p:blipFill>
        <p:spPr>
          <a:xfrm>
            <a:off x="3773520" y="2057400"/>
            <a:ext cx="159696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276720" y="5485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-Roman"/>
                <a:ea typeface="GaramondLatin-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maris. Frāter est Iuppiter.  Terra tremefactātur tridente su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neptune"/>
          <p:cNvPicPr/>
          <p:nvPr/>
        </p:nvPicPr>
        <p:blipFill>
          <a:blip r:embed="rId1"/>
          <a:stretch/>
        </p:blipFill>
        <p:spPr>
          <a:xfrm>
            <a:off x="1752480" y="1905120"/>
            <a:ext cx="301788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410080" y="3351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Neptū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Rēgīna deōrum et hominum.  Marītus eius est Iuppiter.  Pavō est eius av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uno"/>
          <p:cNvPicPr/>
          <p:nvPr/>
        </p:nvPicPr>
        <p:blipFill>
          <a:blip r:embed="rId1"/>
          <a:stretch/>
        </p:blipFill>
        <p:spPr>
          <a:xfrm>
            <a:off x="3505320" y="1523880"/>
            <a:ext cx="2133360" cy="451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14400" y="3771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ūnō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bellī et pater Rōmulī et Remī.  Gerit arma ad Rōmam dēfendend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Mars-soldiers-CpyRt"/>
          <p:cNvPicPr/>
          <p:nvPr/>
        </p:nvPicPr>
        <p:blipFill>
          <a:blip r:embed="rId1"/>
          <a:stretch/>
        </p:blipFill>
        <p:spPr>
          <a:xfrm>
            <a:off x="1981080" y="1905120"/>
            <a:ext cx="3138480" cy="3379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5638680" y="31611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flammae sacrae quae in templō suō semper ardet ut Rōma omnibus temporibus tūta s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romvesta"/>
          <p:cNvPicPr/>
          <p:nvPr/>
        </p:nvPicPr>
        <p:blipFill>
          <a:blip r:embed="rId1"/>
          <a:stretch/>
        </p:blipFill>
        <p:spPr>
          <a:xfrm>
            <a:off x="3276720" y="1752480"/>
            <a:ext cx="1751040" cy="3581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867280" y="4151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Vest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3:02:39Z</dcterms:created>
  <dc:creator>William H. Snyder</dc:creator>
  <dc:description/>
  <dc:language>en-US</dc:language>
  <cp:lastModifiedBy>CFF</cp:lastModifiedBy>
  <dcterms:modified xsi:type="dcterms:W3CDTF">2011-01-17T16:18:19Z</dcterms:modified>
  <cp:revision>13</cp:revision>
  <dc:subject/>
  <dc:title>The twelve major deities of ancient Rome</dc:title>
</cp:coreProperties>
</file>